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jpeg" ContentType="image/jpeg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84E-EABC-4E16-92B7-7C11D9A3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745-16FB-40D9-A0C6-D30EBD9B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16E-EBC5-4083-8102-7D104F4C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9DA-3C93-4FB5-BBF6-D10B6A26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B44D-B1AD-48D7-B90E-C7BEC52B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53B9-5C5C-4B17-97B7-9DD741D3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88D2-DA8D-4F3E-9419-3FBDD3F1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3951-3A1D-4680-9822-A31CD4CA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A4E4-B9EF-4AEF-ACEB-A4710670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D921-36EF-48E7-84F6-2429474B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58AD-B62E-4A27-94A4-B06A1959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CAA-97BF-4FE6-A9DE-B07A72B3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C5C2-4971-4260-8246-F1675DBD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636B-F3EF-4738-BEDA-5FBB3192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42B3-8115-46AB-BA13-279EAF12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325A-1B5C-4C54-80BE-48D7D2C1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2167-B40E-4B6A-825C-F8174CCB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DB7-AC9D-4D03-A3DC-B5472D31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044-45AB-4BFF-BDB6-01543D5B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305-E0CD-49C4-9F82-5504150B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712-C0D2-4228-B9BC-3CD92CDA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15D-76CE-434B-921C-3D2B155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94B-9994-4974-9939-EF197CD6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432-2F95-4AB3-B3A1-2832A581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3A30-B129-4545-8A1B-D3ED91A35B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6F54-6558-4696-AC06-3A5AC355E9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838080"/>
            <a:ext cx="7620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The real voyage of discovery lies not in seeking new landscapes, but in having new ey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MS Pゴシック"/>
              </a:rPr>
              <a:t>-Marcel Proust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8610480" cy="5333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29120" y="53352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1836720"/>
            <a:ext cx="5105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uring          Understa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Readiness, Interests,    Learning pro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839080" cy="5815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24200" y="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3962520"/>
            <a:ext cx="685800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nceptualiz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32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491200">
              <a:off x="4830480" y="1950480"/>
              <a:ext cx="2409840" cy="1321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a4"/>
                  </a:solidFill>
                  <a:latin typeface="Arial Narrow"/>
                </a:rPr>
                <a:t>Stud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a4"/>
                  </a:solidFill>
                  <a:latin typeface="Arial Narrow"/>
                </a:rPr>
                <a:t>Engagem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35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a4"/>
                  </a:solidFill>
                  <a:latin typeface="Arial"/>
                </a:rPr>
                <a:t>Wh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a4"/>
                  </a:solidFill>
                  <a:latin typeface="Arial"/>
                </a:rPr>
                <a:t>Ho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a4"/>
                  </a:solidFill>
                  <a:latin typeface="Arial"/>
                </a:rPr>
                <a:t>Wha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81756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compels a 21st century learner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5715000" cy="4156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9480" y="304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Many Layers of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334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many layers of a stud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56240" y="1676160"/>
            <a:ext cx="418608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aris:Users:toni:Desktop:EDS_RunningWithTheSquirrels.mov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470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6026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9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80920" y="817560"/>
            <a:ext cx="765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In order to teach the squirrels,   you must think like the squirrel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Cognitive Flexibility Theory</a:t>
            </a:r>
            <a:br>
              <a:rPr sz="4400"/>
            </a:b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R. Spiro, P. Feltovitch &amp; R. Coulso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4419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bility to spontaneously restructure one's knowledge, in many ways, in adaptive response to changing situational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6240" y="1676160"/>
            <a:ext cx="418608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hasis is placed upon the presentation of information from multiple perspecti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0"/>
            <a:ext cx="845820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uiding Principles of Cognitive Flexibil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Learning activities must provide multiple representations of cont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Instructional materials should avoid oversimplifying the cont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Instruction should emphasize knowledge construction, not transmission of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Knowledge sources should be highly interconnected rather than     compartmental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981080" y="914400"/>
            <a:ext cx="54104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1371600"/>
            <a:ext cx="7924680" cy="4038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hat is teaching?</a:t>
            </a: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80920" y="817560"/>
            <a:ext cx="7653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How do we make learning compelling for our 21st century student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838080"/>
            <a:ext cx="7620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The real voyage of discovery lies not in seeking new landscapes, but in having new ey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MS Pゴシック"/>
              </a:rPr>
              <a:t>-Marcel Proust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838080"/>
            <a:ext cx="762012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  <a:ea typeface="MS Pゴシック"/>
              </a:rPr>
              <a:t>What new eyes are you seeking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2590560" cy="1679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5867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oni Theisen</a:t>
            </a: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 High Schoo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ompson School Distric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, CO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970-482-2606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akar95@verinet.com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Personalized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Releva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Contextualized</a:t>
            </a:r>
            <a:br>
              <a:rPr sz="8000"/>
            </a:b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triangl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292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480060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05320" y="8380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71920" y="76212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58280" y="503712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5840" y="4876920"/>
            <a:ext cx="23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05320" y="45720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5562720"/>
            <a:ext cx="25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567160"/>
            <a:ext cx="5410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Essential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Words/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1" lang="en-US" sz="2400" spc="-1" strike="noStrike">
                <a:solidFill>
                  <a:srgbClr val="000000"/>
                </a:solidFill>
                <a:latin typeface="ヒラギノ角ゴ Pro W3"/>
              </a:rPr>
              <a:t>_x0010_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le class lear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Knows, understands, able to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8076960" cy="5815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29000" y="38088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0760" y="5562720"/>
            <a:ext cx="23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657600"/>
            <a:ext cx="56390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textu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5924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9720" y="585144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2133720"/>
            <a:ext cx="434340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ectful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5924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9720" y="585144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560680"/>
            <a:ext cx="586728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21:57:03Z</dcterms:created>
  <dc:creator>Toni Theisen</dc:creator>
  <dc:description/>
  <dc:language>en-US</dc:language>
  <cp:lastModifiedBy>Toni Theisen</cp:lastModifiedBy>
  <dcterms:modified xsi:type="dcterms:W3CDTF">2007-06-13T12:10:55Z</dcterms:modified>
  <cp:revision>89</cp:revision>
  <dc:subject/>
  <dc:title>Essential Question:</dc:title>
</cp:coreProperties>
</file>